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00850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04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704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4032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AB9E-70EB-4B94-9848-0414A34583A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4032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7672-EC42-4BFA-886A-51BAF0D1FB9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B4CB-F032-4CC7-BD4C-0DDF9D42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DEFB-DB4B-4FA5-9F47-470FAF1A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E3BD-7F19-4B7A-BD63-7BAFAE91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0DB6-893F-40BF-AA14-A74919558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64F8-D807-444F-AA24-C721619C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9B46-C359-482A-9A0F-2B1BEB30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E39C-FEE2-4B89-A6CF-7CD82C60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E3B0-F476-41A5-B7E6-2B9BC654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D160-2597-4D6F-B8B1-79DEA1B5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5E6A-7976-4A7E-BD2E-71FA4C94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1CB1-9112-48ED-BD9D-43F1616C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A622-FA42-414D-9EEF-19242736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2611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3b435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d2611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3b435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d2611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8EE4-6A40-4C3F-8837-7D98DBF8816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A85B-70FB-4EAE-BD84-CC97B7F945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1428840"/>
            <a:ext cx="404028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Calibri"/>
              </a:rPr>
              <a:t>Действующие  в 2010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8920" y="1988640"/>
            <a:ext cx="424836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За счет средств работодателя оплачиваются первые 2 дня заболевания</a:t>
            </a:r>
            <a:r>
              <a:rPr b="1" lang="en-US" sz="15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(травмы)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Выплата пособия осуществляется</a:t>
            </a:r>
            <a:r>
              <a:rPr b="1" lang="en-US" sz="15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по</a:t>
            </a:r>
            <a:r>
              <a:rPr b="1" lang="en-US" sz="1500" spc="-1" strike="noStrike" u="sng">
                <a:solidFill>
                  <a:srgbClr val="003300"/>
                </a:solidFill>
                <a:uFillTx/>
                <a:latin typeface="Arial"/>
              </a:rPr>
              <a:t>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всем местам работы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Исчисление пособий из  заработка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за последние 12 календарных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месяцев, предшествующих месяцу наступления страхового случая;</a:t>
            </a:r>
            <a:r>
              <a:rPr b="0" lang="ru-RU" sz="15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Средний дневной заработок определяется путем деления общего заработка за расчетный период на число календарных дней, за которые начислен заработок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3280" y="1484280"/>
            <a:ext cx="404352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Calibri"/>
              </a:rPr>
              <a:t>Будут действовать в 2011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00720" y="1989000"/>
            <a:ext cx="44654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За счет средств работодателя оплачиваются первые 3 дня заболевания (травмы)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Выплата либо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по  всем местам работы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либо только по одному месту  работы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по выбору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 застрахованного лица с учетом заработка у других работодателей;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Исчисление пособий  осуществляется  из среднего заработка 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за два календарных года,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 предшествующих году наступления  страхового случая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Средний дневной заработок определяется  путем деления  общего заработка на 730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7490520" y="1116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40464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ahoma"/>
              </a:rPr>
              <a:t>Условия назначения, исчисления и выплаты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ahoma"/>
              </a:rPr>
              <a:t>пособий по временной нетрудоспособности, по беременности  и рода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C5FF-2051-4A08-999D-8AD9CDE55A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AD16-1943-48E2-945B-B9DB625D3A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357120" y="357120"/>
            <a:ext cx="8286840" cy="62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3. Замена одного (двух) календарных годов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в которых отсутствует заработок для исчисления  пособий (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ч. 1 ст. 14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Причины отсутствия заработка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Условия замены календарных годов</a:t>
            </a: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4. Перерасчет пособия за прошлое время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но 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не более чем за три года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, предшествующих дню представления  справок   (справки) о сумме заработка (ч. 2.1 ст. 15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Скругленный прямоугольник 2"/>
          <p:cNvSpPr/>
          <p:nvPr/>
        </p:nvSpPr>
        <p:spPr>
          <a:xfrm>
            <a:off x="539640" y="1700280"/>
            <a:ext cx="39610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cc"/>
              </a:gs>
              <a:gs pos="100000">
                <a:srgbClr val="a3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Отпуск по беременности и рода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Скругленный прямоугольник 3"/>
          <p:cNvSpPr/>
          <p:nvPr/>
        </p:nvSpPr>
        <p:spPr>
          <a:xfrm>
            <a:off x="5003640" y="1700280"/>
            <a:ext cx="374508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Отпуск по уходу за ребенко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758520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 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634920" y="1197000"/>
            <a:ext cx="576360" cy="43164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1197000"/>
            <a:ext cx="504720" cy="43164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Скругленный прямоугольник 2"/>
          <p:cNvSpPr/>
          <p:nvPr/>
        </p:nvSpPr>
        <p:spPr>
          <a:xfrm>
            <a:off x="324000" y="3068640"/>
            <a:ext cx="396072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cc"/>
              </a:gs>
              <a:gs pos="100000">
                <a:srgbClr val="a3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Замена  осуществляется по заявлению застрахованного лица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Скругленный прямоугольник 2"/>
          <p:cNvSpPr/>
          <p:nvPr/>
        </p:nvSpPr>
        <p:spPr>
          <a:xfrm>
            <a:off x="4859280" y="3068640"/>
            <a:ext cx="396072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cc"/>
              </a:gs>
              <a:gs pos="100000">
                <a:srgbClr val="a3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Замена календарных годов приведет к увеличению размера пособия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2637000"/>
            <a:ext cx="647640" cy="36036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492360" y="2637000"/>
            <a:ext cx="648000" cy="36036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EB8E-328B-4866-B4A3-A1E3B01576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3BDF-69BE-4D8F-A56B-0491FF20D1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539640" y="1773360"/>
            <a:ext cx="820908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Tahoma"/>
              </a:rPr>
              <a:t>Ежемесячное пособие по уходу за ребенком выплачивается  </a:t>
            </a:r>
            <a:r>
              <a:rPr b="1" lang="ru-RU" sz="1900" spc="-1" strike="noStrike" u="sng">
                <a:solidFill>
                  <a:srgbClr val="0000ff"/>
                </a:solidFill>
                <a:uFillTx/>
                <a:latin typeface="Tahoma"/>
              </a:rPr>
              <a:t>только по одному месту работы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 (по выбору застрахованного лица)   -   ч. 2, 2.1 ст.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ff"/>
                </a:solidFill>
                <a:uFillTx/>
                <a:latin typeface="Tahoma"/>
              </a:rPr>
              <a:t>Порядок учета заработка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   -     применяется порядок учета заработка, предусмотренный </a:t>
            </a:r>
            <a:r>
              <a:rPr b="0" lang="en-US" sz="19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ч. 2 и ч. 2.1 ст. 13 Закона, т.е. пособие выплачивается по одному месту работы по выбору застрахованного лица </a:t>
            </a:r>
            <a:r>
              <a:rPr b="0" lang="ru-RU" sz="1900" spc="-1" strike="noStrike" u="sng">
                <a:solidFill>
                  <a:srgbClr val="003300"/>
                </a:solidFill>
                <a:uFillTx/>
                <a:latin typeface="Tahoma"/>
              </a:rPr>
              <a:t>с учетом заработка у других работодателей. 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ff"/>
                </a:solidFill>
                <a:uFillTx/>
                <a:latin typeface="Tahoma"/>
              </a:rPr>
              <a:t>При расчете  пособия</a:t>
            </a:r>
            <a:r>
              <a:rPr b="0" lang="ru-RU" sz="19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   –   представляются справка (справки)  о заработке, из которого исчисляется пособие, от другого (других)  работодател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758520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 1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47628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ahoma"/>
              </a:rPr>
              <a:t>Особенности исчисления и выплаты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ahoma"/>
              </a:rPr>
              <a:t>ежемесячного пособия по уходу за ребенко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8F60-F5ED-43D0-B09E-80C68C28CB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BA7C-739F-42BF-97D2-D52BCB74DA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Tahoma"/>
              </a:rPr>
              <a:t>Пример № 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Работница оформила отпуск по уходу за ребенком с 1 марта 2011 года, работая в </a:t>
            </a:r>
            <a:r>
              <a:rPr b="0" lang="ru-RU" sz="1600" spc="-1" strike="noStrike" u="sng">
                <a:solidFill>
                  <a:srgbClr val="003300"/>
                </a:solidFill>
                <a:uFillTx/>
                <a:latin typeface="Tahoma"/>
              </a:rPr>
              <a:t>фирме «Сокол»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с  11 января 2011 год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В расчетном периоде она работала в организациях «А» и «Б» и получил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в 2009 г. в   организации «А» -  150 000 руб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       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в 2010 г. в   организации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«Б»  -  230 000 руб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Пособие  исчисляется фирмой «Сокол» из заработка за расчетный период, полученного в организациях «А» и «Б»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150 000 руб. + 230 000 руб.</a:t>
            </a:r>
            <a:br>
              <a:rPr sz="1600"/>
            </a:br>
            <a:r>
              <a:rPr b="0" lang="ru-RU" sz="1400" spc="-1" strike="noStrike">
                <a:solidFill>
                  <a:srgbClr val="003300"/>
                </a:solidFill>
                <a:latin typeface="Tahoma"/>
              </a:rPr>
              <a:t>(на основании представленных справок о заработной плате, на которую начислены  страховые взносы в ФСС РФ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Средний дневной заработок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  - 520, 55 руб. (150000 + 230000) : 730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Среднемесячный заработок -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15824,72 руб. (520,55 х 30,4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Размер пособия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-</a:t>
            </a:r>
            <a:r>
              <a:rPr b="0" lang="ru-RU" sz="16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6329,89 руб.</a:t>
            </a:r>
            <a:r>
              <a:rPr b="0" lang="ru-RU" sz="1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(15824,72 х 40%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Внимание!</a:t>
            </a:r>
            <a:r>
              <a:rPr b="0" lang="ru-RU" sz="1600" spc="-1" strike="noStrike">
                <a:solidFill>
                  <a:srgbClr val="993300"/>
                </a:solidFill>
                <a:latin typeface="Tahoma"/>
              </a:rPr>
              <a:t> Заработок, полученный в 2011 г. в  фирме « Сокол», в расчете пособия  не участвуе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758520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 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47628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ahoma"/>
              </a:rPr>
              <a:t>Примеры расчета пособия по уходу за ребенком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E355-AB32-4600-9C51-BA303B6B89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5DFA-A64F-4F3B-A1F3-0E90011E83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549360"/>
            <a:ext cx="87138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Пример №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Работница ушла в отпуск по уходу за ребенком </a:t>
            </a:r>
            <a:r>
              <a:rPr b="1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с 15 января 2011 г.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На момент ухода в отпуск  она работает в ООО «Ромашка» и ООО «Гвоздика»  и в течение двух предшествующих календарных лет получил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Tahoma"/>
              </a:rPr>
              <a:t>в 2009  году 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Tahoma"/>
              </a:rPr>
              <a:t>в  2010 год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ООО  «Ромашка»                350 000 руб.           250 000 руб.</a:t>
            </a:r>
            <a:br>
              <a:rPr sz="1600"/>
            </a:b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ООО «Гвоздика»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                </a:t>
            </a: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200 000 руб.           150 000 руб</a:t>
            </a: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  -</a:t>
            </a:r>
            <a:r>
              <a:rPr b="0" i="1" lang="en-US" sz="16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0" i="1" lang="en-US" sz="1600" spc="-1" strike="noStrike" u="sng">
                <a:solidFill>
                  <a:srgbClr val="006600"/>
                </a:solidFill>
                <a:uFillTx/>
                <a:latin typeface="Tahoma"/>
              </a:rPr>
              <a:t>не учитыва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ООО «Звезда»                    100 000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Расчет пособия делаем по одному месту работы (по выбору) </a:t>
            </a:r>
            <a:r>
              <a:rPr b="1" lang="en-US" sz="1500" spc="-1" strike="noStrike">
                <a:solidFill>
                  <a:srgbClr val="003300"/>
                </a:solidFill>
                <a:latin typeface="Tahoma"/>
              </a:rPr>
              <a:t>(ч. 2 ст. 13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ff"/>
                </a:solidFill>
                <a:uFillTx/>
                <a:latin typeface="Tahoma"/>
              </a:rPr>
              <a:t>Например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, пособие выплачивает ООО «Ромашка»,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заработок  у ООО «Гвоздика» не учитывае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Учитываем заработок  у другого работодателя  в  ООО «Звезда» </a:t>
            </a:r>
            <a:r>
              <a:rPr b="1" lang="en-US" sz="1500" spc="-1" strike="noStrike">
                <a:solidFill>
                  <a:srgbClr val="003300"/>
                </a:solidFill>
                <a:latin typeface="Tahoma"/>
              </a:rPr>
              <a:t>(ч. 1 ст. 14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Заработок состави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за 2009 г. -  450 000 руб.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(350 000 руб. (ООО «Ромашка») + 100 000 руб.(ООО «Звезда»)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за 2010 г. -  250 000  руб.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(ООО «Ромашка»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Общий заработок для исчисления  пособия: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415 000 (из 450 000) руб.  + 250 000 руб. = 665 000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Средний дневной заработок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-  665 000 руб. : 730 = 910,96 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Среднемесячный  заработок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-  910,96 руб. х 30,4 =27 693,18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Размер  пособия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                       - 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27 693,18 х 40%=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11 077,27 руб.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760572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 13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21C2-E6A5-4DD5-A38D-C83279E40E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Tahoma"/>
              </a:rPr>
              <a:t>2010 год</a:t>
            </a: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                             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Tahoma"/>
              </a:rPr>
              <a:t>2011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определение среднего заработка в 12             определение среднего заработка в 24 календарных месяцах, перед 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Arial"/>
              </a:rPr>
              <a:t>месяцем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     месяцах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Arial"/>
              </a:rPr>
              <a:t>, предшествующих году наступлени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Arial"/>
              </a:rPr>
              <a:t>наступления страхового случая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Arial"/>
              </a:rPr>
              <a:t>страхового случа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определение среднего дневного                       определение среднего дневного заработ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заработка (общий заработок  делим                (общий заработок делим на 730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на кол-во календарных дней, за которы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получен заработок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определение  среднего дневного                      не делает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заработка из предельной величи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базы (415000 : 365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сравнение данных, полученных                          не делает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при действии 2 и 3 шаг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– из меньшей величины определяем                    из среднего дневного заработка, полученног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размер  дневного пособия                                   в действии 2, определяем размер дневног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пособ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– определение суммы пособия                              определение суммы пособия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 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26028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ahoma"/>
              </a:rPr>
              <a:t>Пошаговый расчет  пособий</a:t>
            </a:r>
            <a:br>
              <a:rPr sz="2200"/>
            </a:b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(сравнительная таблица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E86A-C0B7-4478-9D1A-F958A9BD8E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CD6D-1848-4906-82A4-B38F3A089A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250920" y="1557360"/>
            <a:ext cx="432108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ffff"/>
              </a:gs>
              <a:gs pos="50000">
                <a:srgbClr val="ffffcc"/>
              </a:gs>
              <a:gs pos="100000">
                <a:srgbClr val="9b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  <a:effectLst>
            <a:outerShdw dist="134955" dir="18672881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№ </a:t>
            </a: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1.</a:t>
            </a:r>
            <a:r>
              <a:rPr b="0" lang="ru-RU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Пособия по временно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етрудоспособности, по беременности и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родам назначаются и выплачиваютс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3300"/>
                </a:solidFill>
                <a:uFillTx/>
                <a:latin typeface="Tahoma"/>
              </a:rPr>
              <a:t>по каждому</a:t>
            </a:r>
            <a:r>
              <a:rPr b="1" i="1" lang="en-US" sz="1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 месту работы (службы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иной деятельности),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если  (ч. 2 ст. 13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250920" y="3357720"/>
            <a:ext cx="424980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ffff"/>
              </a:gs>
              <a:gs pos="50000">
                <a:srgbClr val="ffffcc"/>
              </a:gs>
              <a:gs pos="100000">
                <a:srgbClr val="9b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  <a:effectLst>
            <a:outerShdw dist="134955" dir="18672881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ahoma"/>
              </a:rPr>
              <a:t>№ </a:t>
            </a:r>
            <a:r>
              <a:rPr b="1" lang="en-US" sz="1600" spc="-1" strike="noStrike">
                <a:solidFill>
                  <a:srgbClr val="0000cc"/>
                </a:solidFill>
                <a:latin typeface="Tahoma"/>
              </a:rPr>
              <a:t>2.</a:t>
            </a:r>
            <a:r>
              <a:rPr b="0" lang="en-US" sz="15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Пособия по временно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етрудоспособности, по беременности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и родам, по уходу за ребенком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значаются и выплачиваются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3300"/>
                </a:solidFill>
                <a:uFillTx/>
                <a:latin typeface="Tahoma"/>
              </a:rPr>
              <a:t>по одному</a:t>
            </a:r>
            <a:r>
              <a:rPr b="1" i="1" lang="en-US" sz="14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месту работы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(службы, иной деятельности)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если (ч. 2.1 ст. 13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5076720" y="1557360"/>
            <a:ext cx="388800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99ccff"/>
            </a:solidFill>
            <a:miter/>
          </a:ln>
          <a:effectLst>
            <a:outerShdw dist="127008" dir="18416092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 момент наступления страхов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случая застрахованное лицо  занят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у нескольких работодателей, у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которых было занято и в дву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предшествующих календарных годах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AutoShape 14"/>
          <p:cNvSpPr/>
          <p:nvPr/>
        </p:nvSpPr>
        <p:spPr>
          <a:xfrm>
            <a:off x="5003640" y="3357720"/>
            <a:ext cx="396108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99ccff"/>
            </a:solidFill>
            <a:miter/>
          </a:ln>
          <a:effectLst>
            <a:outerShdw dist="127008" dir="18416092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 момент наступления страхового</a:t>
            </a:r>
            <a:r>
              <a:rPr b="1" lang="en-US" sz="12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случая застрахованное лицо занят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у нескольких работодателей, а в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двух предшествующих календарны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годах было занято у  други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работодателей (другого работодател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AutoShape 16"/>
          <p:cNvSpPr/>
          <p:nvPr/>
        </p:nvSpPr>
        <p:spPr>
          <a:xfrm>
            <a:off x="250920" y="5229360"/>
            <a:ext cx="424980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ffff"/>
              </a:gs>
              <a:gs pos="50000">
                <a:srgbClr val="ffffcc"/>
              </a:gs>
              <a:gs pos="100000">
                <a:srgbClr val="9b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  <a:effectLst>
            <a:outerShdw dist="125751" dir="18900000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№ </a:t>
            </a: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3.</a:t>
            </a:r>
            <a:r>
              <a:rPr b="0" lang="ru-RU" sz="15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Пособия по временно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етрудоспособности, по беременности и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родам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азначаются и выплачиваются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либо по порядку, изложенному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в варианте № 1,  либо  в  варианте № 2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если   (ч. 2.2 ст. 13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5003640" y="5157720"/>
            <a:ext cx="396108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99ccff"/>
            </a:solidFill>
            <a:miter/>
          </a:ln>
          <a:effectLst>
            <a:outerShdw dist="117181" dir="18638369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 момент наступления страхов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случая застрахованное лицо занят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у нескольких работодателей, а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в двух предшествующих календарны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годах было занято  как  у  этих же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так и у других работодателе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(другого работодател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AutoShape 21"/>
          <p:cNvSpPr/>
          <p:nvPr/>
        </p:nvSpPr>
        <p:spPr>
          <a:xfrm>
            <a:off x="4643280" y="2205000"/>
            <a:ext cx="433440" cy="216000"/>
          </a:xfrm>
          <a:custGeom>
            <a:avLst/>
            <a:gdLst>
              <a:gd name="textAreaLeft" fmla="*/ 0 w 433440"/>
              <a:gd name="textAreaRight" fmla="*/ 433800 w 433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cc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404640"/>
            <a:ext cx="8785440" cy="854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ahoma"/>
              </a:rPr>
              <a:t>Порядок назначения и выплаты пособий с 1 января 2011 года</a:t>
            </a:r>
            <a:br>
              <a:rPr sz="2200"/>
            </a:b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(части 2, 2.1 и 2.2 ст. 13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AutoShape 21"/>
          <p:cNvSpPr/>
          <p:nvPr/>
        </p:nvSpPr>
        <p:spPr>
          <a:xfrm>
            <a:off x="4572000" y="4005360"/>
            <a:ext cx="433440" cy="2156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cc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AutoShape 21"/>
          <p:cNvSpPr/>
          <p:nvPr/>
        </p:nvSpPr>
        <p:spPr>
          <a:xfrm>
            <a:off x="4572000" y="5805360"/>
            <a:ext cx="433440" cy="216000"/>
          </a:xfrm>
          <a:custGeom>
            <a:avLst/>
            <a:gdLst>
              <a:gd name="textAreaLeft" fmla="*/ 0 w 433440"/>
              <a:gd name="textAreaRight" fmla="*/ 433800 w 433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cc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C53A-3578-4D28-B6D1-4497069F9E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38A7-6A9B-4154-A5FF-C90D7B7421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179280" y="1268280"/>
            <a:ext cx="868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Пособие по временной нетрудоспособности, по беременности и родам назначается и выплачивается </a:t>
            </a:r>
            <a:r>
              <a:rPr b="1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по каждому месту работы (службы, иной деятельности)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если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cc"/>
                </a:solidFill>
                <a:latin typeface="Tahoma"/>
              </a:rPr>
              <a:t>на момент наступления страхового случая застрахованное лицо занято у нескольких работодателей и в двух предшествующих календарных годах  было занято у тех же  работодателей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3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404640"/>
            <a:ext cx="8785440" cy="854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Порядок  назначения  и  расчета  пособи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в соответствии с частью 2 статьи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TextBox 2"/>
          <p:cNvSpPr/>
          <p:nvPr/>
        </p:nvSpPr>
        <p:spPr>
          <a:xfrm flipH="1">
            <a:off x="179280" y="2781360"/>
            <a:ext cx="878544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Пример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У Иванова С.И. временная нетрудоспособность наступила с 20.01.2011 – 31.01.2011, страховой стаж 8 лет, 3 мес. (размер пособия 100%). На момент наступления  заболевания он работал в течение двух календарных лет в ООО «Ромашка» и ООО «Гвоздика»  и получил: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в 2010 году  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в 2009  году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 Ромашка»          250000 руб.        350000 руб.</a:t>
            </a:r>
            <a:br>
              <a:rPr sz="1300"/>
            </a:b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ООО « Гвоздика»          150000 руб.        200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1). ООО «Ромашка» -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р/дн. заработок равен (250000 + 350000) :730 = 821,92 руб.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умма пособия  составит 821.92 х 12 =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9863,01 руб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2). ООО «Гвоздика» -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р/дн. заработок  равен (150000 + 200000) : 730=479,45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умма пособия  составит 479,45 х 12 =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5753,40 руб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ff0000"/>
                </a:solidFill>
                <a:uFillTx/>
                <a:latin typeface="Tahoma"/>
              </a:rPr>
              <a:t>Внимание: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ahoma"/>
              </a:rPr>
              <a:t>Средний заработок учитывается за каждый  календарный год в сумме не превышающей  предельную величину базы для начисления страховых взносов в ФСС РФ на соответствующий календарный год каждым страхователем (на 2009 и 2010 годы   - 415000 руб. на каждый указанный календарный год – (ч. 3.1 ст. 14) </a:t>
            </a:r>
            <a:r>
              <a:rPr b="1" i="1" lang="ru-RU" sz="1300" spc="-1" strike="noStrike">
                <a:solidFill>
                  <a:srgbClr val="800000"/>
                </a:solidFill>
                <a:latin typeface="Tahoma"/>
              </a:rPr>
              <a:t>   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9929-DD4E-4C0D-93BB-41958D73B6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241F-97A3-4B13-9314-DCCFDC415A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179280" y="1125360"/>
            <a:ext cx="8785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Пособия  по  временной нетрудоспособности, по беременности и родам, ежемесячное пособие по уходу за ребенком назначаются и выплачиваются страхователем </a:t>
            </a:r>
            <a:r>
              <a:rPr b="1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по одному из последних мест работы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(службы, иной деятельности) по выбору застрахованного лица, если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Tahoma"/>
              </a:rPr>
              <a:t>на момент наступления страхового случая застрахованное лицо занято у нескольких страхователей, а в двух предшествующих календарных годах было занято у других работодателей (у другого работодателя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Прямоугольник 4"/>
          <p:cNvSpPr/>
          <p:nvPr/>
        </p:nvSpPr>
        <p:spPr>
          <a:xfrm flipV="1">
            <a:off x="2143080" y="685872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333360"/>
            <a:ext cx="8785440" cy="7812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Порядок  назначения  и  расчета  пособи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в соответствии с частью 2.1. статьи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TextBox 1"/>
          <p:cNvSpPr/>
          <p:nvPr/>
        </p:nvSpPr>
        <p:spPr>
          <a:xfrm>
            <a:off x="250920" y="2873520"/>
            <a:ext cx="8642160" cy="38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Пример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У Сидорова В.И. временная нетрудоспособность наступила с 01.02.2011 – 28.02.2011, страховой стаж  7 лет, 3 мес. (размер пособия 80%). На момент наступления  заболевания он работал в ООО «Ромашка» и ООО «Гвоздика» и получил: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c00000"/>
                </a:solidFill>
                <a:latin typeface="Tahoma"/>
              </a:rPr>
              <a:t>                                  </a:t>
            </a:r>
            <a:r>
              <a:rPr b="1" lang="ru-RU" sz="1300" spc="-1" strike="noStrike" u="sng">
                <a:solidFill>
                  <a:srgbClr val="0000ff"/>
                </a:solidFill>
                <a:uFillTx/>
                <a:latin typeface="Tahoma"/>
              </a:rPr>
              <a:t>в 2010 году</a:t>
            </a:r>
            <a:r>
              <a:rPr b="1" lang="ru-RU" sz="1300" spc="-1" strike="noStrike">
                <a:solidFill>
                  <a:srgbClr val="0000ff"/>
                </a:solidFill>
                <a:latin typeface="Tahoma"/>
              </a:rPr>
              <a:t>         </a:t>
            </a:r>
            <a:r>
              <a:rPr b="1" lang="ru-RU" sz="1300" spc="-1" strike="noStrike" u="sng">
                <a:solidFill>
                  <a:srgbClr val="0000ff"/>
                </a:solidFill>
                <a:uFillTx/>
                <a:latin typeface="Tahoma"/>
              </a:rPr>
              <a:t>в 2009 году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</a:t>
            </a:r>
            <a:br>
              <a:rPr sz="1300"/>
            </a:br>
            <a:r>
              <a:rPr b="1" lang="en-US" sz="13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Ромашка»       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3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50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000 руб.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Пламя»           150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000 руб.          </a:t>
            </a:r>
            <a:br>
              <a:rPr sz="1300"/>
            </a:b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фирма «Заря»                                          250 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Пособие назначает и выплачивает ООО «Ромашка»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            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(по   выбору  работника)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за 2009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г</a:t>
            </a: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.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250 000 руб.         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за  2010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г.   415 000 руб. </a:t>
            </a: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(из </a:t>
            </a:r>
            <a:r>
              <a:rPr b="0" lang="en-US" sz="1300" spc="-1" strike="noStrike">
                <a:solidFill>
                  <a:srgbClr val="003300"/>
                </a:solidFill>
                <a:latin typeface="Tahoma"/>
              </a:rPr>
              <a:t>3</a:t>
            </a: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50 000 руб. + 150 000 руб.)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 indent="272880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Ср/дневной  заработок       - (415000 + 250000) : 730 = 910,96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272880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Дневное  пособие               - 910,96 х 80% =728,77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272880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Сумма пособия                   -  728,77 х 28 =</a:t>
            </a:r>
            <a:r>
              <a:rPr b="0" lang="ru-RU" sz="13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00ff"/>
                </a:solidFill>
                <a:latin typeface="Tahoma"/>
              </a:rPr>
              <a:t>20405,56 руб</a:t>
            </a:r>
            <a:r>
              <a:rPr b="0" lang="ru-RU" sz="13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ff0000"/>
                </a:solidFill>
                <a:uFillTx/>
                <a:latin typeface="Tahoma"/>
              </a:rPr>
              <a:t>Внимание!</a:t>
            </a:r>
            <a:r>
              <a:rPr b="1" lang="ru-RU" sz="13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ru-RU" sz="1300" spc="-1" strike="noStrike">
                <a:solidFill>
                  <a:srgbClr val="800000"/>
                </a:solidFill>
                <a:latin typeface="Tahoma"/>
              </a:rPr>
              <a:t>Заработок, полученный в ООО «Гвоздика»  и ООО «Ромашка»  в 2011 году,                 в расчете  данного пособия не участвует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Line 6"/>
          <p:cNvSpPr/>
          <p:nvPr/>
        </p:nvSpPr>
        <p:spPr>
          <a:xfrm flipV="1">
            <a:off x="3635280" y="41497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499A-0E50-4E20-84DB-3C685F6740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FDCB-2319-43F3-BABA-E1CC384D9C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Box 5"/>
          <p:cNvSpPr/>
          <p:nvPr/>
        </p:nvSpPr>
        <p:spPr>
          <a:xfrm flipH="1">
            <a:off x="179280" y="1125360"/>
            <a:ext cx="87854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00"/>
                </a:solidFill>
                <a:latin typeface="Tahoma"/>
              </a:rPr>
              <a:t>Пособия по временной нетрудоспособности, по беременности и родам назначаются  и выплачиваются либо по всем местам работы    (вар. № 1)  либо по одному из последних мест работы (вар. № 2)  если :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3333ff"/>
                </a:solidFill>
                <a:latin typeface="Tahoma"/>
              </a:rPr>
              <a:t>на момент наступления  страхового случая застрахованное лицо было занято у нескольких работодателей, а в двух предшествующих календарных годах было  занято как у этих же, так и у других страхователей (другого страхователя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Дуга 12"/>
          <p:cNvSpPr/>
          <p:nvPr/>
        </p:nvSpPr>
        <p:spPr>
          <a:xfrm>
            <a:off x="7000920" y="5072040"/>
            <a:ext cx="46080" cy="46080"/>
          </a:xfrm>
          <a:custGeom>
            <a:avLst/>
            <a:gdLst>
              <a:gd name="textAreaLeft" fmla="*/ 23040 w 46080"/>
              <a:gd name="textAreaRight" fmla="*/ 46440 w 46080"/>
              <a:gd name="textAreaTop" fmla="*/ 0 h 46080"/>
              <a:gd name="textAreaBottom" fmla="*/ 23040 h 46080"/>
            </a:gdLst>
            <a:ahLst/>
            <a:rect l="textAreaLeft" t="textAreaTop" r="textAreaRight" b="textAreaBottom"/>
            <a:pathLst>
              <a:path stroke="0" w="46038" h="46037">
                <a:moveTo>
                  <a:pt x="23019" y="0"/>
                </a:moveTo>
                <a:lnTo>
                  <a:pt x="-19093" y="-12529"/>
                </a:lnTo>
                <a:arcTo wR="-9749" hR="-9749" stAng="-9805885" swAng="5400000"/>
                <a:lnTo>
                  <a:pt x="23019" y="23019"/>
                </a:lnTo>
                <a:close/>
              </a:path>
              <a:path fill="none" w="46038" h="46037">
                <a:moveTo>
                  <a:pt x="23019" y="0"/>
                </a:moveTo>
                <a:lnTo>
                  <a:pt x="-19093" y="-12529"/>
                </a:lnTo>
                <a:arcTo wR="-9749" hR="-9749" stAng="-9805885" swAng="5400000"/>
              </a:path>
            </a:pathLst>
          </a:custGeom>
          <a:noFill/>
          <a:ln w="9360">
            <a:solidFill>
              <a:srgbClr val="fd82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5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333360"/>
            <a:ext cx="8785440" cy="792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Порядок  назначения  и  расчета  пособи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в соответствии с частью 2.2. статьи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179280" y="2538360"/>
            <a:ext cx="8785440" cy="43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Пример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У</a:t>
            </a:r>
            <a:r>
              <a:rPr b="1" i="1" lang="ru-RU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Иванова С.И. временная нетрудоспособность наступила  с 20.01.2011 – 31.01.2011, страховой стаж 8 лет, 3 мес. ( размер пособия 100%). На момент наступления  заболевания  он работал  в течение двух календарных лет в ООО «Лилия» и ООО «Астра»  и получил: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                  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в</a:t>
            </a:r>
            <a:r>
              <a:rPr b="1" lang="ru-RU" sz="1300" spc="-1" strike="noStrike" u="sng">
                <a:solidFill>
                  <a:srgbClr val="c00000"/>
                </a:solidFill>
                <a:uFillTx/>
                <a:latin typeface="Tahoma"/>
              </a:rPr>
              <a:t>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2010 году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        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в 2009  году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Лилия»              250 000 руб.             350 000 руб.</a:t>
            </a:r>
            <a:br>
              <a:rPr sz="1300"/>
            </a:b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ООО «Астра»                150 000 руб.             200 000 руб.</a:t>
            </a:r>
            <a:r>
              <a:rPr b="1" i="1" lang="ru-RU" sz="13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фирма «Звезда»                                            300 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 Расчет пособия  каждым страхователем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Лилия»  и  ООО «Астра»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ff0000"/>
                </a:solidFill>
                <a:uFillTx/>
                <a:latin typeface="Tahoma"/>
              </a:rPr>
              <a:t>Внимание</a:t>
            </a:r>
            <a:r>
              <a:rPr b="1" lang="ru-RU" sz="1300" spc="-1" strike="noStrike">
                <a:solidFill>
                  <a:srgbClr val="ff0000"/>
                </a:solidFill>
                <a:latin typeface="Tahoma"/>
              </a:rPr>
              <a:t>!</a:t>
            </a:r>
            <a:r>
              <a:rPr b="1" lang="ru-RU" sz="1300" spc="-1" strike="noStrike">
                <a:solidFill>
                  <a:srgbClr val="800000"/>
                </a:solidFill>
                <a:latin typeface="Tahoma"/>
              </a:rPr>
              <a:t> Заработок, полученный в фирме «Звезда», не учитывается (ч. 1 ст. 14)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 Расчет пособия по одному из  последних мест работы, например, ООО «Лилия»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1) Заработок по годам составит: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за 2009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- 350 000 ( ООО «Лилия») + 300 000 (фирма «Звезда»)  + 200 000  (ООО «Астра»)  = 850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за 2009 г.    заработок ограничиваем суммой в 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415 000 руб. ,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за 2010 г.    250 000 руб. + 150 000 руб. = 400 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2) Ср/дневной заработок равен (415 000 + 400 000 ) : 730 = 1116.44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3) Дневное пособие           - 1116,44 руб.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4) Сумма    пособия            - 1116,44  х 12=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00ff"/>
                </a:solidFill>
                <a:latin typeface="Tahoma"/>
              </a:rPr>
              <a:t>13397,28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7D41-007B-42A3-891C-B0FF5554ED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9280" y="33336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ahoma"/>
              </a:rPr>
              <a:t>Пошаговый расчет  пособий</a:t>
            </a:r>
            <a:br>
              <a:rPr sz="2200"/>
            </a:b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(сравнительная таблица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 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237960" y="1363680"/>
            <a:ext cx="3928320" cy="53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                      </a:t>
            </a:r>
            <a:r>
              <a:rPr b="1" lang="en-US" sz="1800" spc="-1" strike="noStrike" u="sng">
                <a:solidFill>
                  <a:srgbClr val="3333ff"/>
                </a:solidFill>
                <a:uFillTx/>
                <a:latin typeface="Tahoma"/>
              </a:rPr>
              <a:t>2010 год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1 -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реднего заработка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в 12 календарных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месяцах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Tahoma"/>
              </a:rPr>
              <a:t> перед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3300"/>
                </a:solidFill>
                <a:uFillTx/>
                <a:latin typeface="Tahoma"/>
              </a:rPr>
              <a:t>месяцем наступления страхов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3300"/>
                </a:solidFill>
                <a:uFillTx/>
                <a:latin typeface="Tahoma"/>
              </a:rPr>
              <a:t>случа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2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-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реднего дневн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заработка (общий заработок  делим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 кол-во календарных дней, за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который получен заработок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3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- 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 среднего дневн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заработка из предельной величины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базы (415000 : 365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4</a:t>
            </a:r>
            <a:r>
              <a:rPr b="1" lang="en-US" sz="16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-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сравнение данных, полученны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при действии 2 и 3 шага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–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из меньшей величины определяем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размер  дневного пособия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–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уммы пособия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4719600" y="1341360"/>
            <a:ext cx="4424400" cy="53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                    </a:t>
            </a:r>
            <a:r>
              <a:rPr b="1" lang="en-US" sz="1800" spc="-1" strike="noStrike" u="sng">
                <a:solidFill>
                  <a:srgbClr val="3333ff"/>
                </a:solidFill>
                <a:uFillTx/>
                <a:latin typeface="Tahoma"/>
              </a:rPr>
              <a:t>2011 год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реднего заработка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в 24 календарных месяцах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Tahoma"/>
              </a:rPr>
              <a:t>, предшествующих году наступления страхового случа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реднего дневн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заработка (общий заработок  делим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 730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3300"/>
                </a:solidFill>
                <a:latin typeface="Tahoma"/>
              </a:rPr>
              <a:t>,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е делаетс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е делаетс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из среднего дневного заработка определяем размер дневного заработка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уммы пособия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5268-BDDF-491F-82D9-181FFFE295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474A-9111-442E-9D58-4B7017E514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Скругленный прямоугольник 4"/>
          <p:cNvSpPr/>
          <p:nvPr/>
        </p:nvSpPr>
        <p:spPr>
          <a:xfrm>
            <a:off x="1332000" y="2349360"/>
            <a:ext cx="6786360" cy="1284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1. Заработок за два календарных года, предшествующих году наступления страхового случая, в том числе  за время  работы у другого работодателя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Скругленный прямоугольник 5"/>
          <p:cNvSpPr/>
          <p:nvPr/>
        </p:nvSpPr>
        <p:spPr>
          <a:xfrm>
            <a:off x="1332000" y="4076640"/>
            <a:ext cx="678636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2. В заработок включаются все  виды выплат  и иных вознаграждений в пользу  работника, на которые начислены страховые взносы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Скругленный прямоугольник 6"/>
          <p:cNvSpPr/>
          <p:nvPr/>
        </p:nvSpPr>
        <p:spPr>
          <a:xfrm>
            <a:off x="1332000" y="5445000"/>
            <a:ext cx="67863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3. Средний  дневной заработок определяется путем деления суммы начисленного заработка на 73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Стрелка вниз 7"/>
          <p:cNvSpPr/>
          <p:nvPr/>
        </p:nvSpPr>
        <p:spPr>
          <a:xfrm>
            <a:off x="4284720" y="1989000"/>
            <a:ext cx="484200" cy="3603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66ff99"/>
              </a:gs>
              <a:gs pos="50000">
                <a:srgbClr val="a3ffff"/>
              </a:gs>
              <a:gs pos="100000">
                <a:srgbClr val="66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 7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333360"/>
            <a:ext cx="8785440" cy="1655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Определение среднего заработка для расчета пособий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по временной нетрудоспособности, по беременности и родам,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ежемесячного пособия по уходу за ребенком 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(ч. 2. ст. 14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Стрелка вниз 7"/>
          <p:cNvSpPr/>
          <p:nvPr/>
        </p:nvSpPr>
        <p:spPr>
          <a:xfrm>
            <a:off x="4356000" y="3645000"/>
            <a:ext cx="360360" cy="431640"/>
          </a:xfrm>
          <a:prstGeom prst="downArrow">
            <a:avLst>
              <a:gd name="adj1" fmla="val 50000"/>
              <a:gd name="adj2" fmla="val 59890"/>
            </a:avLst>
          </a:prstGeom>
          <a:gradFill rotWithShape="0">
            <a:gsLst>
              <a:gs pos="0">
                <a:srgbClr val="66ff99"/>
              </a:gs>
              <a:gs pos="50000">
                <a:srgbClr val="a3ffff"/>
              </a:gs>
              <a:gs pos="100000">
                <a:srgbClr val="66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Стрелка вниз 7"/>
          <p:cNvSpPr/>
          <p:nvPr/>
        </p:nvSpPr>
        <p:spPr>
          <a:xfrm>
            <a:off x="4356000" y="5013360"/>
            <a:ext cx="360360" cy="431640"/>
          </a:xfrm>
          <a:prstGeom prst="downArrow">
            <a:avLst>
              <a:gd name="adj1" fmla="val 50000"/>
              <a:gd name="adj2" fmla="val 59890"/>
            </a:avLst>
          </a:prstGeom>
          <a:gradFill rotWithShape="0">
            <a:gsLst>
              <a:gs pos="0">
                <a:srgbClr val="66ff99"/>
              </a:gs>
              <a:gs pos="50000">
                <a:srgbClr val="a3ffff"/>
              </a:gs>
              <a:gs pos="100000">
                <a:srgbClr val="66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C6ED-6FA6-4ABB-AF46-80E77DD13C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5BB5-D452-41E3-8DB9-ABAE769461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2892600"/>
            <a:ext cx="2468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 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404640"/>
            <a:ext cx="8785440" cy="1656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Особенности определения среднего заработка для исчисления пособий 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за период до 1 января 2010 года,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а для лиц, работающих по трудовым договорам в организациях и у индивидуальных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предпринимателей, применяющих специальные налоговые режимы,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- за период до 1 января 2011 года </a:t>
            </a: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Скругленный прямоугольник 4"/>
          <p:cNvSpPr/>
          <p:nvPr/>
        </p:nvSpPr>
        <p:spPr>
          <a:xfrm>
            <a:off x="826920" y="2565360"/>
            <a:ext cx="756144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В средний заработок  включаются  все  виды выплат и  иных вознаграждений  в пользу работника, на которые начисляются страховые  взносы в ФСС и которые не превышают предельную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величину базы для начисления страховых взносов  в Фонд, установленную </a:t>
            </a:r>
            <a:r>
              <a:rPr b="0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в 2010 году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Скругленный прямоугольник 4"/>
          <p:cNvSpPr/>
          <p:nvPr/>
        </p:nvSpPr>
        <p:spPr>
          <a:xfrm>
            <a:off x="900000" y="4581360"/>
            <a:ext cx="7488360" cy="1009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Средний заработок учитывается </a:t>
            </a:r>
            <a:r>
              <a:rPr b="0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за каждый календарный год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 в сумме, не превышающей предельную величину базы для начисления страховых взносов в Фонд, установленную в 2010 году (415 000 руб.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4346640" y="2070000"/>
            <a:ext cx="504720" cy="486000"/>
          </a:xfrm>
          <a:custGeom>
            <a:avLst/>
            <a:gdLst>
              <a:gd name="textAreaLeft" fmla="*/ 95040 w 504720"/>
              <a:gd name="textAreaRight" fmla="*/ 409680 w 504720"/>
              <a:gd name="textAreaTop" fmla="*/ 133200 h 486000"/>
              <a:gd name="textAreaBottom" fmla="*/ 35280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929"/>
                </a:moveTo>
                <a:lnTo>
                  <a:pt x="12566" y="5929"/>
                </a:lnTo>
                <a:lnTo>
                  <a:pt x="12566" y="0"/>
                </a:lnTo>
                <a:lnTo>
                  <a:pt x="21600" y="10800"/>
                </a:lnTo>
                <a:lnTo>
                  <a:pt x="12566" y="21600"/>
                </a:lnTo>
                <a:lnTo>
                  <a:pt x="12566" y="15671"/>
                </a:lnTo>
                <a:lnTo>
                  <a:pt x="0" y="15671"/>
                </a:lnTo>
                <a:lnTo>
                  <a:pt x="4075" y="10800"/>
                </a:lnTo>
                <a:lnTo>
                  <a:pt x="0" y="5929"/>
                </a:lnTo>
                <a:close/>
              </a:path>
            </a:pathLst>
          </a:custGeom>
          <a:gradFill rotWithShape="0">
            <a:gsLst>
              <a:gs pos="0">
                <a:srgbClr val="66ff99"/>
              </a:gs>
              <a:gs pos="50000">
                <a:srgbClr val="66ffff"/>
              </a:gs>
              <a:gs pos="100000">
                <a:srgbClr val="66ff99"/>
              </a:gs>
            </a:gsLst>
            <a:lin ang="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4383000" y="4122360"/>
            <a:ext cx="431640" cy="486000"/>
          </a:xfrm>
          <a:custGeom>
            <a:avLst/>
            <a:gdLst>
              <a:gd name="textAreaLeft" fmla="*/ 81360 w 431640"/>
              <a:gd name="textAreaRight" fmla="*/ 350280 w 431640"/>
              <a:gd name="textAreaTop" fmla="*/ 133200 h 486000"/>
              <a:gd name="textAreaBottom" fmla="*/ 35280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929"/>
                </a:moveTo>
                <a:lnTo>
                  <a:pt x="12566" y="5929"/>
                </a:lnTo>
                <a:lnTo>
                  <a:pt x="12566" y="0"/>
                </a:lnTo>
                <a:lnTo>
                  <a:pt x="21600" y="10800"/>
                </a:lnTo>
                <a:lnTo>
                  <a:pt x="12566" y="21600"/>
                </a:lnTo>
                <a:lnTo>
                  <a:pt x="12566" y="15671"/>
                </a:lnTo>
                <a:lnTo>
                  <a:pt x="0" y="15671"/>
                </a:lnTo>
                <a:lnTo>
                  <a:pt x="4075" y="10800"/>
                </a:lnTo>
                <a:lnTo>
                  <a:pt x="0" y="5929"/>
                </a:lnTo>
                <a:close/>
              </a:path>
            </a:pathLst>
          </a:custGeom>
          <a:gradFill rotWithShape="0">
            <a:gsLst>
              <a:gs pos="0">
                <a:srgbClr val="66ff99"/>
              </a:gs>
              <a:gs pos="50000">
                <a:srgbClr val="66ffff"/>
              </a:gs>
              <a:gs pos="100000">
                <a:srgbClr val="66ff99"/>
              </a:gs>
            </a:gsLst>
            <a:lin ang="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83DC-266F-4740-B6AD-628F297AA7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0149-BE84-4A13-99DB-A8567E729C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 9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476280"/>
            <a:ext cx="8785440" cy="792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ahoma"/>
              </a:rPr>
              <a:t>Особенности исчисления и выплаты пособий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250920" y="1628640"/>
            <a:ext cx="864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1.  Пособия исчисляются из МРОТ</a:t>
            </a:r>
            <a:r>
              <a:rPr b="1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в случаях если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450720" algn="just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в двух  календарных годах, предшествующих году наступления страхового случая, отсутствует заработная плата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450720" algn="just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средний месячный заработок составляет ниже МРОТ.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МРОТ применяется без учета районного коэффициента                        (ч. 1.1  ст. 14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2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.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При неполном рабочем времени</a:t>
            </a:r>
            <a:r>
              <a:rPr b="1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средний заработок</a:t>
            </a: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в 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указанных выше случаях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 определяется  пропорционально продолжительности рабочего времени.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Так при работе на 0,5 ставки пособие  надо исчислять                          из 2165 руб. (50% МРОТ) (ч. 1.1 ст. 14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AA56-690C-404C-B058-FDD7FBFC17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1:35:43Z</dcterms:created>
  <dc:creator>Orlova_0001</dc:creator>
  <dc:description/>
  <dc:language>en-US</dc:language>
  <cp:lastModifiedBy>USER</cp:lastModifiedBy>
  <dcterms:modified xsi:type="dcterms:W3CDTF">2010-12-16T06:34:27Z</dcterms:modified>
  <cp:revision>304</cp:revision>
  <dc:subject/>
  <dc:title>Слайд 1</dc:title>
</cp:coreProperties>
</file>